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D36-D6F1-4BF5-B1CF-D5FF54168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6EF-D510-4527-8503-EAEDE613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A74-A5FB-4938-8858-F194A0D9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245-3B98-40F1-8530-705C040C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DB1-9059-4526-9DA2-38B95E28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38914-0FF6-4FAE-8790-A896CDEE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E0AD9-E9F2-4928-986C-0AC4681B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24967-7643-42A5-99CD-4F31ED67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F6D10-EB82-4308-AD64-CEDE630D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C2160-5C0B-4FD8-958A-8F985805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99576-2671-46CD-8329-2F9E8B3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5E72E-F92F-4C0C-94DB-B176745A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B83-3D87-43B8-8534-0B8D9E30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18D45-E18E-4073-A497-A5F681C2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F3BF6-4256-489E-A949-86A5ABB7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2D19B-A7E3-4C2C-BE77-9421CAC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F9E53-7E21-4847-8271-9A23C7A7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14B11-63E9-46EB-91DC-606E3DC6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C04-304A-4378-9D13-0F62A325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04B-5484-46E2-BD93-FEC5AA7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38E-EA6C-49A1-A4D7-C8B4B837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57D-F4EF-4C88-9FC1-A9DDD229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426-1D9F-4E3A-894D-B1A918D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F3B-61FC-41E3-9465-A9940D2A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64F-39A9-40E9-98C9-A6062F51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78E0-EE24-4B52-912D-48DB1701F9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CB29-C426-42D5-BBCC-652DD7AAE1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90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07084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.Petersburg State University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f Film and Televis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2565360"/>
            <a:ext cx="66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lication of System-on-Chip Technology in Tele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544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PETERS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4005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ulia Kuhm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2840" y="40053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t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49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Разработка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-блоков;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Конструирование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oC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на системно-функциональном уровне из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C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Интеграция всех блоков на кристалле.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 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1844640"/>
            <a:ext cx="69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18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12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00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01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UM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UMP s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620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Counter Assembler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55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337440" cy="489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27680" y="54936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ModelSim dialog b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Pre-synthesis wavefo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60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121120" y="549360"/>
            <a:ext cx="55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ModelSim dialog b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Post-synthesis wavefo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76108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65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823200" y="76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urier New"/>
              </a:rPr>
              <a:t>RE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484280"/>
            <a:ext cx="813600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oC with integrated microprocessor 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have possibility to lear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w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into registers/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utput from registers/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titive routines (timers, count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controller working wavefor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70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595160" y="274716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urier New"/>
              </a:rPr>
              <a:t>Thank you for your time</a:t>
            </a:r>
            <a:r>
              <a:rPr b="1" lang="ru-RU" sz="3200" spc="-1" strike="noStrike">
                <a:solidFill>
                  <a:srgbClr val="003300"/>
                </a:solidFill>
                <a:latin typeface="Courier New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98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964800" y="1341360"/>
            <a:ext cx="6057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unicatio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telecommunications syste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network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V/HDTV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dio navig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 applic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54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Courier New"/>
              </a:rPr>
              <a:t>Rapid developmen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4221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6320" y="4376880"/>
            <a:ext cx="39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Courier New"/>
              </a:rPr>
              <a:t>consumers desires</a:t>
            </a:r>
            <a:r>
              <a:rPr b="0" lang="en-US" sz="2800" spc="-1" strike="noStrike">
                <a:solidFill>
                  <a:srgbClr val="99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9440" y="4365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=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9040" y="50846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 OF DIGITAL CIRCUI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07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73400" y="54936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Classical</a:t>
            </a:r>
            <a:r>
              <a:rPr b="1" lang="ru-RU" sz="2800" spc="-1" strike="noStrike">
                <a:solidFill>
                  <a:srgbClr val="003300"/>
                </a:solidFill>
                <a:latin typeface="Courier New"/>
              </a:rPr>
              <a:t> Printed circuit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840720" cy="4294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2360" y="5013360"/>
            <a:ext cx="2400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Electron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5013360"/>
            <a:ext cx="2057400" cy="8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Discrete Ele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14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00000" y="765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Courier New"/>
              </a:rPr>
              <a:t>IP-unit (Intellectual Proper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51784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4149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units - analogue of real electronic compon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5084640"/>
            <a:ext cx="61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eculiarity of IP-units is a </a:t>
            </a: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frequent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41300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3366"/>
                </a:solidFill>
                <a:uFillTx/>
                <a:latin typeface="Courier New"/>
              </a:rPr>
              <a:t>System-on-Chip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Courier New"/>
              </a:rPr>
              <a:t>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integrated into microelectronic unit </a:t>
            </a: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system</a:t>
            </a: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treaming data processing, which has a </a:t>
            </a: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terminal control box</a:t>
            </a: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croprogrammed automatic machine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processor/ communication controll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22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7416720" cy="3969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92360" y="692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System-on-C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284640"/>
            <a:ext cx="1841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1844640"/>
            <a:ext cx="1943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3366"/>
                </a:solidFill>
                <a:latin typeface="Arial"/>
              </a:rPr>
              <a:t>Intellectu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29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619280" y="2133720"/>
            <a:ext cx="596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urier New"/>
              </a:rPr>
              <a:t>The principles of So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urier New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33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540440" y="549360"/>
            <a:ext cx="63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Microprocessor Core (IP-un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56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38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Разработка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-блоков;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Конструирование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oC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на системно-функциональном уровне из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C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Интеграция всех блоков на кристалле.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 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95280" y="404640"/>
            <a:ext cx="8280360" cy="597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761080" cy="497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34640" y="549360"/>
            <a:ext cx="70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Microprocessor Core</a:t>
            </a:r>
            <a:r>
              <a:rPr b="0" lang="en-US" sz="2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arran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44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01200" y="620640"/>
            <a:ext cx="80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The Structure of Microprocessor Co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on S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77058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14:48:59Z</dcterms:created>
  <dc:creator>koriavaia</dc:creator>
  <dc:description/>
  <dc:language>en-US</dc:language>
  <cp:lastModifiedBy>koriavaia</cp:lastModifiedBy>
  <dcterms:modified xsi:type="dcterms:W3CDTF">2005-06-30T05:27:27Z</dcterms:modified>
  <cp:revision>35</cp:revision>
  <dc:subject/>
  <dc:title>Слайд 1</dc:title>
</cp:coreProperties>
</file>