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CC79-E53E-477B-BA53-25AFABDA1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s don’t care which way of distribution video his provider will chose. I speak about service technology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 a business approach which was proved by life experie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United Kingdom changed the economic trend, having chose to render a service (in contrast to Italy which preferred manufacture way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such reliable approach to “the last mile”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 years ago NHK company suggested ISDB. I suppose such kind of idea was like a breakthrough in broadcasting area. But 10 years later it looks terrible.  If you take a look at this picture you can see that woman transformed your cosy home to mini tv-station. She is not a house-kee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multimedia services provider for herself and her family. Using MM home terminal you can be free from such du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do it automatical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necessary to spent money, time and to have a brainstorm everytime when you wanna use such complicated technolo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ny of these devices have the similar functions. It leads to reduction of purchase power. B Manufactures have to explain to consumer the advantages of new devices.  To give the reason why they should buy this product. There is problem with  home technology integration.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jor shortco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lways possible to built such network. There are many difficulties on this way. How to integrate tecnology which belongs to different generation. It doesn’t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439-DA88-44EA-B424-D46D7061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9C1-C643-403B-9D45-1DB36228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F5D-9892-4F3E-AE64-21BCC6A9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BAE-CAD0-4B87-855C-8B16DFA1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56A-FC29-409D-BFFE-81FCEAF3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F42-EA76-462A-B5A8-00799B61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019-40FF-4359-98DB-7440FD15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831-2FDF-4D31-8776-CB4998F5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896-71A6-4BA5-B052-70274F21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4D5-7160-497C-8AE8-8F9A41B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485-F56B-4819-9DE9-C83C2431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0EC-542D-477B-BBAF-31C65106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173D-C8AC-4D23-9481-E4BE145D5CF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E88B-C4A4-41C2-9471-8DAFBF292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71600" y="3398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exandr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Fe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0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58920" y="162864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 Black"/>
              </a:rPr>
              <a:t>Multimedia Home Ter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9B0-7960-43B3-AFBA-68C774E3FE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24A45-BB4D-4B36-93D8-B70AE01394CC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 flipH="1">
            <a:off x="3995280" y="1700280"/>
            <a:ext cx="2592360" cy="3960720"/>
          </a:xfrm>
          <a:prstGeom prst="line">
            <a:avLst/>
          </a:prstGeom>
          <a:ln w="255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rcRect l="1894" t="64423" r="79212" b="2776"/>
          <a:stretch/>
        </p:blipFill>
        <p:spPr>
          <a:xfrm>
            <a:off x="5796000" y="3284640"/>
            <a:ext cx="1332000" cy="1512720"/>
          </a:xfrm>
          <a:prstGeom prst="rect">
            <a:avLst/>
          </a:prstGeom>
          <a:ln w="9360">
            <a:solidFill>
              <a:srgbClr val="000026"/>
            </a:solidFill>
            <a:miter/>
          </a:ln>
        </p:spPr>
      </p:pic>
      <p:sp>
        <p:nvSpPr>
          <p:cNvPr id="350" name=""/>
          <p:cNvSpPr/>
          <p:nvPr/>
        </p:nvSpPr>
        <p:spPr>
          <a:xfrm>
            <a:off x="6568560" y="1936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800"/>
                </a:solidFill>
                <a:latin typeface="Arial"/>
              </a:rPr>
              <a:t>Th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67640" y="5373720"/>
            <a:ext cx="1224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-top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rcRect l="77507" t="63150" r="3616" b="2749"/>
          <a:stretch/>
        </p:blipFill>
        <p:spPr>
          <a:xfrm>
            <a:off x="7308720" y="3860640"/>
            <a:ext cx="154800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Homepage"/>
          <p:cNvSpPr/>
          <p:nvPr/>
        </p:nvSpPr>
        <p:spPr>
          <a:xfrm>
            <a:off x="4427640" y="5084640"/>
            <a:ext cx="792000" cy="865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Homepage"/>
          <p:cNvSpPr/>
          <p:nvPr/>
        </p:nvSpPr>
        <p:spPr>
          <a:xfrm>
            <a:off x="1442880" y="2060640"/>
            <a:ext cx="825480" cy="8668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Homepage"/>
          <p:cNvSpPr/>
          <p:nvPr/>
        </p:nvSpPr>
        <p:spPr>
          <a:xfrm>
            <a:off x="2700360" y="4869000"/>
            <a:ext cx="792000" cy="865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Homepage"/>
          <p:cNvSpPr/>
          <p:nvPr/>
        </p:nvSpPr>
        <p:spPr>
          <a:xfrm>
            <a:off x="1547640" y="3573360"/>
            <a:ext cx="792360" cy="863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01480" y="35002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oup of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0088400">
            <a:off x="2626920" y="430920"/>
            <a:ext cx="4168080" cy="435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63" y="9"/>
                </a:moveTo>
                <a:arcTo wR="10800" hR="10800" stAng="-5539067" swAng="5962656"/>
                <a:lnTo>
                  <a:pt x="10800" y="10800"/>
                </a:lnTo>
                <a:close/>
              </a:path>
              <a:path fill="none" w="21600" h="21600">
                <a:moveTo>
                  <a:pt x="10363" y="9"/>
                </a:moveTo>
                <a:arcTo wR="10800" hR="10800" stAng="-5539067" swAng="596265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5157720"/>
            <a:ext cx="1295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6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36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Valuable sugges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E1A-89A8-4C13-9D07-E6B60F9F0D4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4BF19-D4E2-4FAF-8CBF-508D090CEDCE}" type="datetime1">
              <a:rPr lang="en-US"/>
              <a:t>07/30/26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7 L -0.1908 -0.29907 E">
                                      <p:cBhvr>
                                        <p:cTn id="472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09462 0.07338 E">
                                      <p:cBhvr>
                                        <p:cTn id="47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8.14815E-006 L 0.14166 0.04214 E">
                                      <p:cBhvr>
                                        <p:cTn id="477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92360" y="2130480"/>
            <a:ext cx="676584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little  mat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1 chann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quires some </a:t>
            </a: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4 Mb/s</a:t>
            </a:r>
            <a:br>
              <a:rPr sz="2400"/>
            </a:b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120 channe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fit in </a:t>
            </a: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500 Mb/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t’s unicast (point to point) architectu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means, there are </a:t>
            </a: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120 termin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ould be a hotel or business company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imate that 2-3 persons are in each ro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, we get </a:t>
            </a: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400 us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our multimedia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7280" y="62064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Size of customer’s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87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A23-6A2A-4069-907C-427FB46CC3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AA46D-F798-4ED7-9930-14245931B8B5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547640" y="1268280"/>
            <a:ext cx="3024360" cy="44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loud"/>
          <p:cNvSpPr/>
          <p:nvPr/>
        </p:nvSpPr>
        <p:spPr>
          <a:xfrm>
            <a:off x="5003640" y="2349360"/>
            <a:ext cx="2305080" cy="120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3933720"/>
            <a:ext cx="718920" cy="8654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56000" y="2060640"/>
            <a:ext cx="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50920" y="5013360"/>
            <a:ext cx="1513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35280" y="2924280"/>
            <a:ext cx="1296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8000" y="3284640"/>
            <a:ext cx="10814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19280" y="1484280"/>
            <a:ext cx="2663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vision &amp;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30560" y="2133720"/>
            <a:ext cx="108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Strea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2133720"/>
            <a:ext cx="1224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amb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64000" y="5300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3200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56000" y="2924280"/>
            <a:ext cx="72072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76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6360" y="220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58920" y="3357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476360" y="24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76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8360" y="19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1636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11640" y="22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35280" y="19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27640" y="3933720"/>
            <a:ext cx="25923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monitor"/>
          <p:cNvSpPr/>
          <p:nvPr/>
        </p:nvSpPr>
        <p:spPr>
          <a:xfrm>
            <a:off x="6372360" y="4653000"/>
            <a:ext cx="504720" cy="441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modem"/>
          <p:cNvSpPr/>
          <p:nvPr/>
        </p:nvSpPr>
        <p:spPr>
          <a:xfrm>
            <a:off x="6261120" y="4338720"/>
            <a:ext cx="615960" cy="242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236000" y="3141720"/>
            <a:ext cx="647640" cy="720720"/>
          </a:xfrm>
          <a:prstGeom prst="line">
            <a:avLst/>
          </a:prstGeom>
          <a:ln w="3492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38360" y="390852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op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7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93080" y="39337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885080" y="39337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27640" y="5084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27640" y="5877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57640" y="57531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aming Head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30160" y="3645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348000" y="2637000"/>
            <a:ext cx="719280" cy="936360"/>
          </a:xfrm>
          <a:prstGeom prst="can">
            <a:avLst>
              <a:gd name="adj" fmla="val 15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9564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47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448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" descr=""/>
          <p:cNvPicPr/>
          <p:nvPr/>
        </p:nvPicPr>
        <p:blipFill>
          <a:blip r:embed="rId1"/>
          <a:srcRect l="24106" t="9860" r="45083" b="58919"/>
          <a:stretch/>
        </p:blipFill>
        <p:spPr>
          <a:xfrm>
            <a:off x="755640" y="1700280"/>
            <a:ext cx="720720" cy="4460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rcRect l="20409" t="7280" r="41361" b="30293"/>
          <a:stretch/>
        </p:blipFill>
        <p:spPr>
          <a:xfrm>
            <a:off x="900000" y="2781360"/>
            <a:ext cx="524160" cy="792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Valuable sugges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DA8-7DB5-4FDE-997D-B1807988E80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039C7-7649-46CC-8A82-1AA62AA293C5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73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470600" y="1598760"/>
            <a:ext cx="64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-networks are not the only way of distrib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around the h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607760" y="2492280"/>
            <a:ext cx="669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DVB-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DVB-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ula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standard </a:t>
            </a: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IEEE 802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IEEE 802.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lu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03184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485440" y="470052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To attract consumers wi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Valuable sugges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497-3B61-49C3-833B-269853FAED42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D5FAD-AE0F-4B94-A074-A84BCAF517B1}" type="datetime1">
              <a:rPr lang="en-US"/>
              <a:t>07/30/26</a:t>
            </a:fld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780000" y="5587920"/>
            <a:ext cx="5400360" cy="505080"/>
          </a:xfrm>
          <a:prstGeom prst="ellipse">
            <a:avLst/>
          </a:prstGeom>
          <a:solidFill>
            <a:srgbClr val="8dc6ff"/>
          </a:solidFill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76000" y="1341360"/>
            <a:ext cx="6550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new idea, place and function for broadcaster is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67840" y="3860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4627440"/>
            <a:ext cx="46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no servic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01440" y="55641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no money from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76720" y="4797360"/>
            <a:ext cx="1800360" cy="1008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6779470"/>
                <a:lnTo>
                  <a:pt x="6582" y="858"/>
                </a:lnTo>
                <a:arcTo wR="10800" hR="10800" stAng="-6779470" swAng="677947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63360" y="2276640"/>
            <a:ext cx="64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near to customer and suggest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37760" y="3284640"/>
            <a:ext cx="67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-day broadcaster serve millions of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09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510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Valuable id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9EF-D38B-4E80-825E-38002B79F44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759C5-185B-4BC4-AA84-208214DB4797}" type="datetime1">
              <a:rPr lang="en-US"/>
              <a:t>07/30/26</a:t>
            </a:fld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116000" y="404640"/>
            <a:ext cx="7056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76360" y="2349000"/>
            <a:ext cx="2517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95640" y="3502080"/>
            <a:ext cx="50328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128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79640" y="414972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123640" y="4581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411280" y="4581360"/>
            <a:ext cx="287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87640" y="34704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508720" y="1197000"/>
            <a:ext cx="244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 programming based on personal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D supplying multimedia content description (sum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” advertis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ing of home video and sharing content among the official “Friends” us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perso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82280" y="3476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0" y="1557360"/>
            <a:ext cx="431640" cy="4751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Media service providers bene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45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546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332-6C3A-419C-8A1F-90FDF150474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81C0E-E52D-4A5E-B103-3A667037C038}" type="datetime1">
              <a:rPr lang="en-US"/>
              <a:t>07/30/26</a:t>
            </a:fld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1160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Media service providers bene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03440" y="167652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26880" y="206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551600" y="2635200"/>
            <a:ext cx="70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your aud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things they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like</a:t>
            </a:r>
            <a:br>
              <a:rPr sz="2400"/>
            </a:b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47640" y="3213000"/>
            <a:ext cx="71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a partnership built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tr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with clearly define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80000" y="4214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552680" y="4076640"/>
            <a:ext cx="72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ilt business models being confident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your cust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not disappe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lives 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75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576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92A-99FE-4E68-AFCE-85B1FB87C55F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2EFC2-BC52-49B1-AEF9-6C201397367C}" type="datetime1">
              <a:rPr lang="en-US"/>
              <a:t>07/30/26</a:t>
            </a:fld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98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599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0" name="" descr=""/>
          <p:cNvPicPr/>
          <p:nvPr/>
        </p:nvPicPr>
        <p:blipFill>
          <a:blip r:embed="rId1"/>
          <a:srcRect l="1106" t="2237" r="4130" b="52238"/>
          <a:stretch/>
        </p:blipFill>
        <p:spPr>
          <a:xfrm>
            <a:off x="1619280" y="1484280"/>
            <a:ext cx="6121440" cy="4392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Integrated servi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FFD-1128-4072-A34D-98E15BC25E31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08976-AB2C-431D-9FBB-2963D0670926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640" y="5414760"/>
            <a:ext cx="309384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P Set Top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16000" y="40464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As for equipment (hardwa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99080" y="371628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2357280" y="3645000"/>
            <a:ext cx="2286000" cy="190476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1474920" y="194076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unctions of multimedia service are concentrated on one ter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’ place is equipped by IP Set box, TV set, remount control and PC with blaster (PCA-car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32160" y="55897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CA-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29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630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623-252D-4938-A5C0-2FFC5CF7264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0D881-3E01-45FE-BA1B-2E78C508C353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25892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Comic Sans MS"/>
              </a:rPr>
              <a:t>Our motto is</a:t>
            </a:r>
            <a:r>
              <a:rPr b="1" lang="ru-RU" sz="3600" spc="-1" strike="noStrike">
                <a:solidFill>
                  <a:srgbClr val="0066cc"/>
                </a:solidFill>
                <a:latin typeface="Comic Sans MS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Ways of promo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332000" y="52038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need to pay only for service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476360" y="1916280"/>
            <a:ext cx="68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duce a service techn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ardware an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how the possibilities of our products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making a showro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everyone can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try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ultimedia terminal and practically see the benefits of  new service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free for p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56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657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D63-253E-4B15-BFFB-8C682ED8005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D6F96-73B7-4086-9E6C-09879F56318F}" type="datetime1">
              <a:rPr lang="en-US"/>
              <a:t>07/30/26</a:t>
            </a:fld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4920" y="1628640"/>
            <a:ext cx="6697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rn home today has been filled up wit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elli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-to-dat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echnol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. Most of this technology consist  of multimedia dev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Subject definition_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6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77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783-B993-44AA-9B83-802E0A8D3C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8E9BD-C471-4C24-8CA0-606226B6E93C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332000" y="237960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hanks for attention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80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681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CD8-F4CE-47F5-91DA-680929FB7D8C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25988-A00F-4FA5-A4C6-2E137BB96074}" type="datetime1">
              <a:rPr lang="en-US"/>
              <a:t>07/30/26</a:t>
            </a:fld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482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Major shortcom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sibility to built a network connecting all household equipment and control remotely is not always managed. </a:t>
            </a:r>
            <a:r>
              <a:rPr b="1" lang="en-US" sz="2000" spc="-1" strike="noStrike">
                <a:solidFill>
                  <a:srgbClr val="8dc6ff"/>
                </a:solidFill>
                <a:latin typeface="Arial"/>
              </a:rPr>
              <a:t>Smart h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ology still hasn’t become an affordable reality for a large amount of consu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raditional approach_1</a:t>
            </a:r>
            <a:r>
              <a:rPr b="1" lang="en-US" sz="4400" spc="-1" strike="noStrike">
                <a:solidFill>
                  <a:srgbClr val="0066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12000" y="3602160"/>
            <a:ext cx="2381040" cy="1771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04000" y="4005360"/>
            <a:ext cx="1228680" cy="100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1380960" cy="8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427640" y="3716280"/>
            <a:ext cx="666720" cy="70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771640" y="3789360"/>
            <a:ext cx="1381320" cy="3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716360" y="526104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971640" y="5734080"/>
            <a:ext cx="2381040" cy="80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234936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gra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ll devices isn’t alway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rcRect l="16408" t="5137" r="16408" b="6734"/>
          <a:stretch/>
        </p:blipFill>
        <p:spPr>
          <a:xfrm>
            <a:off x="1042920" y="3357720"/>
            <a:ext cx="158292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4124160" y="4581360"/>
            <a:ext cx="1239840" cy="79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771640" y="4508640"/>
            <a:ext cx="1224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987280" y="429228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71880" y="4365720"/>
            <a:ext cx="480960" cy="647640"/>
          </a:xfrm>
          <a:custGeom>
            <a:avLst/>
            <a:gdLst/>
            <a:ahLst/>
            <a:rect l="l" t="t" r="r" b="b"/>
            <a:pathLst>
              <a:path w="303" h="408">
                <a:moveTo>
                  <a:pt x="38" y="408"/>
                </a:moveTo>
                <a:cubicBezTo>
                  <a:pt x="19" y="313"/>
                  <a:pt x="0" y="219"/>
                  <a:pt x="38" y="181"/>
                </a:cubicBezTo>
                <a:cubicBezTo>
                  <a:pt x="76" y="143"/>
                  <a:pt x="227" y="211"/>
                  <a:pt x="265" y="181"/>
                </a:cubicBezTo>
                <a:cubicBezTo>
                  <a:pt x="303" y="151"/>
                  <a:pt x="265" y="30"/>
                  <a:pt x="265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27400" y="4510080"/>
            <a:ext cx="480960" cy="647640"/>
          </a:xfrm>
          <a:custGeom>
            <a:avLst/>
            <a:gdLst/>
            <a:ahLst/>
            <a:rect l="l" t="t" r="r" b="b"/>
            <a:pathLst>
              <a:path w="303" h="408">
                <a:moveTo>
                  <a:pt x="38" y="408"/>
                </a:moveTo>
                <a:cubicBezTo>
                  <a:pt x="19" y="313"/>
                  <a:pt x="0" y="219"/>
                  <a:pt x="38" y="181"/>
                </a:cubicBezTo>
                <a:cubicBezTo>
                  <a:pt x="76" y="143"/>
                  <a:pt x="227" y="211"/>
                  <a:pt x="265" y="181"/>
                </a:cubicBezTo>
                <a:cubicBezTo>
                  <a:pt x="303" y="151"/>
                  <a:pt x="265" y="30"/>
                  <a:pt x="265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413-CB5E-46CF-A507-276E7AD34D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FE2CB-46B5-4364-B2C5-9B35EA3AFC3A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-0.39791 0.07361 E">
                                      <p:cBhvr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C 0.04774 0.01991 0.09566 0.03982 0.14479 0.03681 C 0.19393 0.0338 0.26979 -0.00926 0.29479 -0.01852 E">
                                      <p:cBhvr>
                                        <p:cTn id="6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C 0.00747 -0.01968 0.01493 -0.03912 0.01719 -0.06204 C 0.01945 -0.08495 0.02014 -0.11389 0.01372 -0.13796 C 0.00729 -0.16204 -0.01302 -0.19398 -0.02083 -0.20694 C -0.02865 -0.21991 -0.03073 -0.21805 -0.03281 -0.2162 E">
                                      <p:cBhvr>
                                        <p:cTn id="6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C -0.03524 -0.00533 -0.07048 -0.01065 -0.09826 -0.01135 C -0.12604 -0.01204 -0.1467 -0.00834 -0.16718 -0.0044 E">
                                      <p:cBhvr>
                                        <p:cTn id="6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C -0.0243 -0.01227 -0.04791 -0.02292 -0.08021 1.48148E-006 C -0.11232 0.02407 -0.17396 0.12361 -0.19201 0.14375 E">
                                      <p:cBhvr>
                                        <p:cTn id="6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33333E-006 C -0.01789 0.01458 -0.0356 0.0294 -0.04653 0.05972 C -0.05747 0.09005 -0.07448 0.14329 -0.06563 0.18148 C -0.05678 0.21968 -0.0073 0.27037 0.00678 0.28958 C 0.02084 0.3088 0.0198 0.30255 0.01893 0.29653 E">
                                      <p:cBhvr>
                                        <p:cTn id="7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2920" y="155700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s is looking for a new way to attract consumer’s attention to their produ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 "/>
          <p:cNvPicPr/>
          <p:nvPr/>
        </p:nvPicPr>
        <p:blipFill>
          <a:blip r:embed="rId1"/>
          <a:stretch/>
        </p:blipFill>
        <p:spPr>
          <a:xfrm>
            <a:off x="5148360" y="3141720"/>
            <a:ext cx="3714480" cy="1752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58920" y="47628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raditional approach_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21280" y="2708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42560" y="3642840"/>
            <a:ext cx="43210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 installation of new software is rather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hard to underst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ieces of equipment have </a:t>
            </a:r>
            <a:r>
              <a:rPr b="0" lang="en-US" sz="2400" spc="-1" strike="noStrike">
                <a:solidFill>
                  <a:srgbClr val="8dc6ff"/>
                </a:solidFill>
                <a:latin typeface="Arial"/>
              </a:rPr>
              <a:t>similar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41360" y="4653000"/>
            <a:ext cx="43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Comic Sans MS"/>
              </a:rPr>
              <a:t>Why should the consumer waste money buying the same th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95480" y="5176800"/>
            <a:ext cx="34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3645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 have no desire to buy new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47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336840" y="26337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P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9040" y="311616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Video 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85C-5CFD-43FC-8E03-AD493D5EBE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7B2C4-B89E-4ED5-9896-5CD534C30938}" type="datetime1">
              <a:rPr lang="en-US"/>
              <a:t>07/30/26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8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18920" y="1773000"/>
            <a:ext cx="683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joint functions from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Valuable sugges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314172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cc"/>
                </a:solidFill>
                <a:latin typeface="Arial"/>
              </a:rPr>
              <a:t>Consumers sometimes are not even aware of certain possi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60200" y="5392800"/>
            <a:ext cx="3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76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620360" y="2295360"/>
            <a:ext cx="607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esent the list of multimedia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1280" y="4051440"/>
            <a:ext cx="48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ansform functions to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CF7-74C7-43F1-84A6-1D7CA8E1C4D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A6227-A392-42FE-B86A-829AE4CDB979}" type="datetime1">
              <a:rPr lang="en-US"/>
              <a:t>07/30/26</a:t>
            </a:fld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D and HD TV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VOD (Video on Demand)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16000" y="2276280"/>
            <a:ext cx="6408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ive-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a800"/>
                </a:solidFill>
                <a:latin typeface="Arial"/>
              </a:rPr>
              <a:t>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a800"/>
                </a:solidFill>
                <a:latin typeface="Arial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a800"/>
                </a:solidFill>
                <a:latin typeface="Arial"/>
              </a:rPr>
              <a:t>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03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he list of services_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1557360"/>
            <a:ext cx="5832720" cy="792000"/>
          </a:xfrm>
          <a:prstGeom prst="rect">
            <a:avLst/>
          </a:prstGeom>
          <a:solidFill>
            <a:srgbClr val="8dc6ff">
              <a:alpha val="40000"/>
            </a:srgbClr>
          </a:solidFill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58920" y="3284640"/>
            <a:ext cx="2089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076640"/>
            <a:ext cx="2089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4940280"/>
            <a:ext cx="2089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4941720"/>
            <a:ext cx="237636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3284640"/>
            <a:ext cx="230364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3789360"/>
            <a:ext cx="72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3284640"/>
            <a:ext cx="3168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4076640"/>
            <a:ext cx="2376360" cy="144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4076640"/>
            <a:ext cx="316836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72436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202920" y="3787920"/>
            <a:ext cx="7308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5615640" y="3753720"/>
            <a:ext cx="216000" cy="287280"/>
          </a:xfrm>
          <a:prstGeom prst="triangle">
            <a:avLst>
              <a:gd name="adj" fmla="val 500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5759640" y="3753360"/>
            <a:ext cx="216000" cy="287640"/>
          </a:xfrm>
          <a:prstGeom prst="triangle">
            <a:avLst>
              <a:gd name="adj" fmla="val 500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8172360" y="3499920"/>
            <a:ext cx="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08C-38C6-4DC7-BB7D-EA07C639CE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3AC9A-9E42-4E43-9722-85042018B521}" type="datetime1">
              <a:rPr lang="en-US"/>
              <a:t>07/30/26</a:t>
            </a:fld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1.48148E-006 L 0.24809 -0.12593 E">
                                      <p:cBhvr>
                                        <p:cTn id="247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0.25208 -0.00509 E">
                                      <p:cBhvr>
                                        <p:cTn id="264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he list of services_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91960" y="1412640"/>
            <a:ext cx="7196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fo cha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76360" y="2852640"/>
            <a:ext cx="4535640" cy="2952720"/>
          </a:xfrm>
          <a:prstGeom prst="rect">
            <a:avLst/>
          </a:prstGeom>
          <a:solidFill>
            <a:srgbClr val="8dc6ff"/>
          </a:solidFill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2924280"/>
            <a:ext cx="1008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19280" y="3429000"/>
            <a:ext cx="1657440" cy="2232000"/>
          </a:xfrm>
          <a:prstGeom prst="rect">
            <a:avLst/>
          </a:prstGeom>
          <a:solidFill>
            <a:srgbClr val="00a800">
              <a:alpha val="23000"/>
            </a:srgbClr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unning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gfam Lis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rogram tit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19640" y="3429000"/>
            <a:ext cx="1439640" cy="2232000"/>
          </a:xfrm>
          <a:prstGeom prst="rect">
            <a:avLst/>
          </a:prstGeom>
          <a:solidFill>
            <a:srgbClr val="00a800">
              <a:alpha val="23000"/>
            </a:srgbClr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ff&amp;com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3429000"/>
            <a:ext cx="1008000" cy="2232000"/>
          </a:xfrm>
          <a:prstGeom prst="rect">
            <a:avLst/>
          </a:prstGeom>
          <a:solidFill>
            <a:srgbClr val="00a800">
              <a:alpha val="23000"/>
            </a:srgbClr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ion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2924280"/>
            <a:ext cx="280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08320" y="582444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of Display Information for TV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53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694520" y="1892160"/>
            <a:ext cx="29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859280" y="1700280"/>
            <a:ext cx="1081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859280" y="2060280"/>
            <a:ext cx="1152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59280" y="242100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15960" y="147780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time of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7040" y="183816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-sensitiv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5240" y="22701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’s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5FE-5741-4D64-970C-744F96EDF28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4ED0B-4191-4D7E-B811-CFE8E816C338}" type="datetime1">
              <a:rPr lang="en-US"/>
              <a:t>07/30/26</a:t>
            </a:fld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1600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The list of services_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87280" y="1123920"/>
            <a:ext cx="266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fo cha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6360" y="2852640"/>
            <a:ext cx="4535640" cy="2952720"/>
          </a:xfrm>
          <a:prstGeom prst="rect">
            <a:avLst/>
          </a:prstGeom>
          <a:solidFill>
            <a:srgbClr val="8dc6ff"/>
          </a:solidFill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47640" y="2924280"/>
            <a:ext cx="1008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19280" y="3429000"/>
            <a:ext cx="1657440" cy="2232000"/>
          </a:xfrm>
          <a:prstGeom prst="rect">
            <a:avLst/>
          </a:prstGeom>
          <a:solidFill>
            <a:srgbClr val="00a800">
              <a:alpha val="23000"/>
            </a:srgbClr>
          </a:solidFill>
          <a:ln w="93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unning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gfam Lis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rogram tit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924280"/>
            <a:ext cx="280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10120" y="5824440"/>
            <a:ext cx="64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of the Program Recommendation Menu 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’s prefere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5229360"/>
            <a:ext cx="24494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ogram is the m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e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718920" cy="525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138560" y="4076640"/>
            <a:ext cx="720720" cy="541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861800" y="328464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4140360" y="4670280"/>
            <a:ext cx="718920" cy="540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H="1">
            <a:off x="4858920" y="357336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96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97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187280" y="1719360"/>
            <a:ext cx="74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dia Dat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xing of multimedia content for others to brow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024-5F5D-4F00-AE2E-B20CE2FD72C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49592-B4A5-4716-AFE3-BFA0C045D9B2}" type="datetime1">
              <a:rPr lang="en-US"/>
              <a:t>07/30/26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16000" y="40464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Where should the server be situ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1894" t="64423" r="79212" b="2776"/>
          <a:stretch/>
        </p:blipFill>
        <p:spPr>
          <a:xfrm>
            <a:off x="2627280" y="1916280"/>
            <a:ext cx="1332000" cy="1512720"/>
          </a:xfrm>
          <a:prstGeom prst="rect">
            <a:avLst/>
          </a:prstGeom>
          <a:ln w="9360">
            <a:solidFill>
              <a:srgbClr val="000026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6234840" y="18493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800"/>
                </a:solidFill>
                <a:latin typeface="Comic Sans MS"/>
              </a:rPr>
              <a:t>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284360" y="1700280"/>
            <a:ext cx="1222200" cy="4249800"/>
          </a:xfrm>
          <a:prstGeom prst="line">
            <a:avLst/>
          </a:prstGeom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rcRect l="77507" t="63150" r="3616" b="2749"/>
          <a:stretch/>
        </p:blipFill>
        <p:spPr>
          <a:xfrm>
            <a:off x="6877080" y="4149720"/>
            <a:ext cx="158256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4" name=""/>
          <p:cNvSpPr/>
          <p:nvPr/>
        </p:nvSpPr>
        <p:spPr>
          <a:xfrm>
            <a:off x="1187280" y="2492280"/>
            <a:ext cx="388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&amp;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a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insta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26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327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a8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c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def6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def6f1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519-C444-4B8A-A8DE-82BA8B535A5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85F4B-2FC9-405C-9542-65C678CB092E}" type="datetime1">
              <a:rPr lang="en-US"/>
              <a:t>07/30/26</a:t>
            </a:fld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0.39201 0.07894 E">
                                      <p:cBhvr>
                                        <p:cTn id="418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9062 0.02639 E">
                                      <p:cBhvr>
                                        <p:cTn id="420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5T10:37:53Z</dcterms:created>
  <dc:creator>*</dc:creator>
  <dc:description/>
  <dc:language>en-US</dc:language>
  <cp:lastModifiedBy>teacher</cp:lastModifiedBy>
  <dcterms:modified xsi:type="dcterms:W3CDTF">2005-06-30T09:15:44Z</dcterms:modified>
  <cp:revision>31</cp:revision>
  <dc:subject/>
  <dc:title>Федина</dc:title>
</cp:coreProperties>
</file>